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A178-618B-4A18-8331-8305845B4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258-42F1-443B-AF97-FD66074A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607-A3FC-40CD-B8EA-59775E59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39E-5D1C-4F80-8AE2-AEDF33C2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B6C-9739-485D-8765-FCB6ED97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128-BC88-42CC-A68E-B78DA673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6CB-BB7D-41A3-9DD2-9E757FF6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746-2767-4177-AB92-CF209E5C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FA4-06D2-416C-88C7-E99BE043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84C-5FA5-4C88-BB50-FC0F7C82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D65-7EB6-48B9-A636-FFB7B89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4CD-A59C-4F23-ADA2-BFB449B3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7C5-6E1C-4CB3-A4C6-7D4633B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C889-DB7D-4C25-AF46-79DB16547B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38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8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9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10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11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8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24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25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26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3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7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43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44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5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LEGION2</cp:lastModifiedBy>
  <dcterms:modified xsi:type="dcterms:W3CDTF">2016-01-14T08:32:15Z</dcterms:modified>
  <cp:revision>41</cp:revision>
  <dc:subject/>
  <dc:title>Circulatory system</dc:title>
</cp:coreProperties>
</file>